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F35-05F3-477B-B297-2DC634B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A7C-AAE0-41AE-A42A-DF96B8F1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2CB4-C682-45FD-AB25-E2932DF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2A640-DFBF-42C4-ACDF-A7F2ECF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349F0-0CFA-4280-94BA-830B92F2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C5F6-C65E-432B-B9AC-8453BF6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77A4-1BDA-4C34-9D17-E98E1CF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BEE6-5F26-49E1-A245-61F8697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30D8-5F29-443A-AC0F-A3537A1A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4541-48BA-445B-A385-B1F5BDE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88BD-0792-475F-9669-9F1BBF74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C4BF-E37B-46EC-BAE3-6F52683F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AEE-2D03-4F9E-8DDE-98E40C53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47B8-FF02-4CDE-A353-5745B48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4365E-23FE-4B50-A7B9-BFB6906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77787-09EF-4E46-B2C1-BE9768A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68A9-D619-478B-AA14-7D61CCA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035A3-CE41-43D0-A0D6-8E8D4C8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9E883-4A0A-4B31-BB68-DE9E1F4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7BA6D-7ADD-4E82-BB20-840AAEA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3034-5707-41D2-83A4-2BC28B2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D5A4-8E61-4DEF-AEF7-16B8F33A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3D94-485D-48B6-A880-B734E413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147-2BFA-4E6F-B937-1CF39BFD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8217-2989-43EF-BF3D-3014E05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3B16A-1EFD-42A7-A5E9-62C24A84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9A38-B6AE-480C-B1B6-7C1C6D4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C4270-B65E-42D2-9CA9-DCF3A11F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9F88-CB0A-4382-9B7F-64F27925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0D72-E5E1-4E45-8423-38751596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2C32-8FD4-429B-905A-2E83A777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ABF7-63EC-43EA-88AF-C9D64BA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84BB-1003-4789-AEF4-9A039CF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458BA-4C37-4E11-869D-57FE164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DB9C-D7E4-46A2-87C7-24D39A7E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CAC67-F5C8-443F-ABA0-3C39CA02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1F10-6611-4533-BC88-B5743931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DE05F-2368-440D-A42F-B594391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93EB-0A34-42D4-B495-D3D5752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A9486-30E4-4AA4-A594-D8BB5B9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FFC22-0B5D-4EA7-9CD8-C8BEE23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D7998-EEE3-457F-A689-B7217CE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36B9F-24CC-4681-903C-401463C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72992-D1C0-4C2D-8B3D-6571472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8F40A-7346-46D9-A503-EB650D0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B20E0-09EB-4EFA-952D-D100E77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6C256-752F-4ECC-98A2-554EFE5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1AA7-2E2F-4DB1-9335-C87EAE16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D402-F4C5-4EFE-9B04-4D804699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DC2-3AD8-4670-A3C7-F63F07AD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D5A-5CFC-4EB1-B9DF-D66E06F3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4C6-5835-4A60-8B2B-C6CD6B9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9D76-2727-442A-86B7-DA9EBC17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D3E-35C1-4FC3-8308-574E60F7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E71C-90F0-4351-A584-D7E0A7B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DBD-5C9F-4B2D-9CB4-3CA6127F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2B7A-12BA-4345-9D19-DFFC52D5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5BB2-E668-450A-8501-E6CC0248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D560-31F8-4811-BA69-1A0C1A7C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D2A9-04B6-4C20-B78D-8C2EE1C6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C8F-BCB8-43D0-87F5-77C7714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EBD5-0BF3-4984-BB8B-57B2077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B05-5D4E-490F-972B-D81A07CB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3DFC-2211-49F4-AAFE-BA9140E3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01-4149-48D8-9827-97F1B8BA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B58B-A9BE-427F-A3DF-F76A3CA3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6ABB-E850-4DBD-8AD6-8452D49F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2410-BC93-45C4-9605-B70B98D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D940-EB8E-4BD4-B3EC-7CF67E6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E4D4-2FB7-42A7-B0FB-E8F2F73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AEBE-76BF-4D1A-AC61-8C48EE2F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1522-7947-4A32-9AE1-913E2CF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9B98-5CA5-450A-A36E-D1583FD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6842-A3C2-4C02-BC3F-F920859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88DC-63E2-40E3-A3C5-F4E8D6D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D12-E6D8-4016-86FF-CE649C7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89C1-7BC9-4737-9887-4A96188B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B096-8434-441C-818E-F949CF51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BB50-BEE1-4515-A1C9-24727EEB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DCB4-BF76-42C1-9278-A0301CA3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B0B4-B93B-44DC-8BAA-6C5BBF22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FDFA-FB9B-432B-AD49-F1978608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EC9D-CF74-4D5D-ABA7-436C01E9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2A2A-B3B1-4CAD-89B3-40B1F39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90C38-E401-49B2-BEC3-7166766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D8EA-4362-47A6-92BB-D08173E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905-293A-4322-A282-F53DB3E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856F-95DD-4368-9853-9090A7C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A731-7FD1-402C-8E31-1E1FA811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934D-C027-4089-A5BD-F255981F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A2AC-FA7B-4C00-823A-794F3989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8D80-44DD-4D88-9AA5-F4FA2525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A727-6AF9-4DAB-9C7D-CA822CE6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CF59-BF58-4C6A-90FA-2F3FEEA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9DF4-B4F8-4EE5-8AFC-7972003C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07064-A5BA-4229-A644-43376E88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E444-58B5-4720-B7B2-C53B3576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DEB-85E0-44C7-A4AB-D3979F5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4B3C-050D-4E99-9BE4-9A1CB91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3A49-C202-43C3-A7AD-E39D188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BBB7-E12F-4228-BC5A-DFF5D8A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232E-EF96-4604-8341-54F01A5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C0BF-2866-4378-A612-CF6F005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40C1-4323-47A0-A1D0-F5F659E7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D211-BB29-4DF5-8B92-68A528A6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72A5-3018-4EE1-A80D-FAA4DCDC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E0F2-4299-4DE7-90B8-C774F3D9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A148-174B-4F27-BAAD-6C9A02D4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DBF-934C-4553-8616-4BF63B958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D065-4DB2-40C8-96CD-CC0E3AB53A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72A-2F0F-4A50-89F3-9C0BC6D324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53D-E45E-4DA7-9056-BEEE246AA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CDB-064E-440C-AD50-B842FB8A1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37D5-411A-49CA-B603-351290C7F4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A557-EE7F-4CA5-B3EC-63315D3D1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889-072A-4659-A504-145888503D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41F-FB91-4A48-9AC8-B4759A13F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4" descr="1-1.png"/>
          <p:cNvPicPr/>
          <p:nvPr/>
        </p:nvPicPr>
        <p:blipFill>
          <a:blip r:embed="rId1"/>
          <a:stretch/>
        </p:blipFill>
        <p:spPr>
          <a:xfrm>
            <a:off x="0" y="0"/>
            <a:ext cx="23814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5" descr="1-2.png"/>
          <p:cNvPicPr/>
          <p:nvPr/>
        </p:nvPicPr>
        <p:blipFill>
          <a:blip r:embed="rId2"/>
          <a:stretch/>
        </p:blipFill>
        <p:spPr>
          <a:xfrm>
            <a:off x="0" y="6388200"/>
            <a:ext cx="2249640" cy="469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1-3.png"/>
          <p:cNvPicPr/>
          <p:nvPr/>
        </p:nvPicPr>
        <p:blipFill>
          <a:blip r:embed="rId3"/>
          <a:srcRect l="0" t="43468" r="0" b="0"/>
          <a:stretch/>
        </p:blipFill>
        <p:spPr>
          <a:xfrm>
            <a:off x="0" y="2857680"/>
            <a:ext cx="2322360" cy="37162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7" descr="1-4.png"/>
          <p:cNvPicPr/>
          <p:nvPr/>
        </p:nvPicPr>
        <p:blipFill>
          <a:blip r:embed="rId4"/>
          <a:stretch/>
        </p:blipFill>
        <p:spPr>
          <a:xfrm>
            <a:off x="108000" y="1149480"/>
            <a:ext cx="203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9" descr="1-6.png"/>
          <p:cNvPicPr/>
          <p:nvPr/>
        </p:nvPicPr>
        <p:blipFill>
          <a:blip r:embed="rId5"/>
          <a:stretch/>
        </p:blipFill>
        <p:spPr>
          <a:xfrm>
            <a:off x="1446120" y="5857920"/>
            <a:ext cx="617760" cy="6793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0" descr="1-7.png"/>
          <p:cNvPicPr/>
          <p:nvPr/>
        </p:nvPicPr>
        <p:blipFill>
          <a:blip r:embed="rId6"/>
          <a:stretch/>
        </p:blipFill>
        <p:spPr>
          <a:xfrm>
            <a:off x="247680" y="2076480"/>
            <a:ext cx="1914480" cy="90180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1" descr="2-1.png"/>
          <p:cNvPicPr/>
          <p:nvPr/>
        </p:nvPicPr>
        <p:blipFill>
          <a:blip r:embed="rId7"/>
          <a:stretch/>
        </p:blipFill>
        <p:spPr>
          <a:xfrm>
            <a:off x="2260440" y="0"/>
            <a:ext cx="232416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2" descr="2-2.png"/>
          <p:cNvPicPr/>
          <p:nvPr/>
        </p:nvPicPr>
        <p:blipFill>
          <a:blip r:embed="rId8"/>
          <a:stretch/>
        </p:blipFill>
        <p:spPr>
          <a:xfrm>
            <a:off x="2273400" y="5499000"/>
            <a:ext cx="2298600" cy="135900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3" descr="2-3.png"/>
          <p:cNvPicPr/>
          <p:nvPr/>
        </p:nvPicPr>
        <p:blipFill>
          <a:blip r:embed="rId9"/>
          <a:stretch/>
        </p:blipFill>
        <p:spPr>
          <a:xfrm>
            <a:off x="2273400" y="0"/>
            <a:ext cx="232416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4" descr="2-4.png"/>
          <p:cNvPicPr/>
          <p:nvPr/>
        </p:nvPicPr>
        <p:blipFill>
          <a:blip r:embed="rId10"/>
          <a:stretch/>
        </p:blipFill>
        <p:spPr>
          <a:xfrm>
            <a:off x="3249720" y="0"/>
            <a:ext cx="1334880" cy="901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5" descr="2-5.png"/>
          <p:cNvPicPr/>
          <p:nvPr/>
        </p:nvPicPr>
        <p:blipFill>
          <a:blip r:embed="rId11"/>
          <a:stretch/>
        </p:blipFill>
        <p:spPr>
          <a:xfrm>
            <a:off x="2298600" y="5845320"/>
            <a:ext cx="542880" cy="5061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6" descr="2-6.png"/>
          <p:cNvPicPr/>
          <p:nvPr/>
        </p:nvPicPr>
        <p:blipFill>
          <a:blip r:embed="rId12"/>
          <a:stretch/>
        </p:blipFill>
        <p:spPr>
          <a:xfrm>
            <a:off x="2890800" y="5857920"/>
            <a:ext cx="507960" cy="51732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2-7.png"/>
          <p:cNvPicPr/>
          <p:nvPr/>
        </p:nvPicPr>
        <p:blipFill>
          <a:blip r:embed="rId13"/>
          <a:stretch/>
        </p:blipFill>
        <p:spPr>
          <a:xfrm>
            <a:off x="3435480" y="5881680"/>
            <a:ext cx="506160" cy="4698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8" descr="2-8.png"/>
          <p:cNvPicPr/>
          <p:nvPr/>
        </p:nvPicPr>
        <p:blipFill>
          <a:blip r:embed="rId14"/>
          <a:stretch/>
        </p:blipFill>
        <p:spPr>
          <a:xfrm>
            <a:off x="4029120" y="5881680"/>
            <a:ext cx="530280" cy="48276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9" descr="2-9.png"/>
          <p:cNvPicPr/>
          <p:nvPr/>
        </p:nvPicPr>
        <p:blipFill>
          <a:blip r:embed="rId15"/>
          <a:stretch/>
        </p:blipFill>
        <p:spPr>
          <a:xfrm>
            <a:off x="2779560" y="6029280"/>
            <a:ext cx="1322640" cy="18576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0" descr="2-10.png"/>
          <p:cNvPicPr/>
          <p:nvPr/>
        </p:nvPicPr>
        <p:blipFill>
          <a:blip r:embed="rId16"/>
          <a:stretch/>
        </p:blipFill>
        <p:spPr>
          <a:xfrm>
            <a:off x="2384280" y="1247760"/>
            <a:ext cx="2125800" cy="41274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1" descr="2-11.png"/>
          <p:cNvPicPr/>
          <p:nvPr/>
        </p:nvPicPr>
        <p:blipFill>
          <a:blip r:embed="rId17"/>
          <a:stretch/>
        </p:blipFill>
        <p:spPr>
          <a:xfrm>
            <a:off x="2347920" y="420840"/>
            <a:ext cx="2063880" cy="4039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2" descr="2-12.png"/>
          <p:cNvPicPr/>
          <p:nvPr/>
        </p:nvPicPr>
        <p:blipFill>
          <a:blip r:embed="rId18"/>
          <a:stretch/>
        </p:blipFill>
        <p:spPr>
          <a:xfrm>
            <a:off x="3236760" y="4189320"/>
            <a:ext cx="1236960" cy="14083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3" descr="2-13.png"/>
          <p:cNvPicPr/>
          <p:nvPr/>
        </p:nvPicPr>
        <p:blipFill>
          <a:blip r:embed="rId19"/>
          <a:stretch/>
        </p:blipFill>
        <p:spPr>
          <a:xfrm>
            <a:off x="2335320" y="4819680"/>
            <a:ext cx="901440" cy="7650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4" descr="2-14.png"/>
          <p:cNvPicPr/>
          <p:nvPr/>
        </p:nvPicPr>
        <p:blipFill>
          <a:blip r:embed="rId20"/>
          <a:stretch/>
        </p:blipFill>
        <p:spPr>
          <a:xfrm>
            <a:off x="2965320" y="1209600"/>
            <a:ext cx="828720" cy="95112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26" descr="3-1.png"/>
          <p:cNvPicPr/>
          <p:nvPr/>
        </p:nvPicPr>
        <p:blipFill>
          <a:blip r:embed="rId21"/>
          <a:stretch/>
        </p:blipFill>
        <p:spPr>
          <a:xfrm>
            <a:off x="4546440" y="0"/>
            <a:ext cx="2337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27" descr="3-2.png"/>
          <p:cNvPicPr/>
          <p:nvPr/>
        </p:nvPicPr>
        <p:blipFill>
          <a:blip r:embed="rId22"/>
          <a:stretch/>
        </p:blipFill>
        <p:spPr>
          <a:xfrm>
            <a:off x="4608360" y="0"/>
            <a:ext cx="2187720" cy="6555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8" descr="3-3.png"/>
          <p:cNvPicPr/>
          <p:nvPr/>
        </p:nvPicPr>
        <p:blipFill>
          <a:blip r:embed="rId23"/>
          <a:stretch/>
        </p:blipFill>
        <p:spPr>
          <a:xfrm>
            <a:off x="4546440" y="6227640"/>
            <a:ext cx="2324160" cy="63036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29" descr="3-4.png"/>
          <p:cNvPicPr/>
          <p:nvPr/>
        </p:nvPicPr>
        <p:blipFill>
          <a:blip r:embed="rId24"/>
          <a:stretch/>
        </p:blipFill>
        <p:spPr>
          <a:xfrm>
            <a:off x="4597560" y="371520"/>
            <a:ext cx="2234880" cy="266868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30" descr="3-5.png"/>
          <p:cNvPicPr/>
          <p:nvPr/>
        </p:nvPicPr>
        <p:blipFill>
          <a:blip r:embed="rId25"/>
          <a:stretch/>
        </p:blipFill>
        <p:spPr>
          <a:xfrm>
            <a:off x="4546440" y="3187800"/>
            <a:ext cx="1038240" cy="31636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31" descr="3-6.png"/>
          <p:cNvPicPr/>
          <p:nvPr/>
        </p:nvPicPr>
        <p:blipFill>
          <a:blip r:embed="rId26"/>
          <a:stretch/>
        </p:blipFill>
        <p:spPr>
          <a:xfrm>
            <a:off x="5313240" y="5646600"/>
            <a:ext cx="519120" cy="7048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32" descr="3-7.png"/>
          <p:cNvPicPr/>
          <p:nvPr/>
        </p:nvPicPr>
        <p:blipFill>
          <a:blip r:embed="rId27"/>
          <a:stretch/>
        </p:blipFill>
        <p:spPr>
          <a:xfrm>
            <a:off x="5757840" y="5721480"/>
            <a:ext cx="531720" cy="61740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3" descr="3-8.png"/>
          <p:cNvPicPr/>
          <p:nvPr/>
        </p:nvPicPr>
        <p:blipFill>
          <a:blip r:embed="rId28"/>
          <a:stretch/>
        </p:blipFill>
        <p:spPr>
          <a:xfrm>
            <a:off x="6178680" y="5610240"/>
            <a:ext cx="593640" cy="71604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34" descr="3-9.png"/>
          <p:cNvPicPr/>
          <p:nvPr/>
        </p:nvPicPr>
        <p:blipFill>
          <a:blip r:embed="rId29"/>
          <a:stretch/>
        </p:blipFill>
        <p:spPr>
          <a:xfrm>
            <a:off x="5003640" y="420840"/>
            <a:ext cx="741600" cy="11491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35" descr="3-10.png"/>
          <p:cNvPicPr/>
          <p:nvPr/>
        </p:nvPicPr>
        <p:blipFill>
          <a:blip r:embed="rId30"/>
          <a:stretch/>
        </p:blipFill>
        <p:spPr>
          <a:xfrm>
            <a:off x="6116760" y="37195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36" descr="3-11.png"/>
          <p:cNvPicPr/>
          <p:nvPr/>
        </p:nvPicPr>
        <p:blipFill>
          <a:blip r:embed="rId31"/>
          <a:stretch/>
        </p:blipFill>
        <p:spPr>
          <a:xfrm>
            <a:off x="4757760" y="1420920"/>
            <a:ext cx="1890720" cy="76680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37" descr="4-1.png"/>
          <p:cNvPicPr/>
          <p:nvPr/>
        </p:nvPicPr>
        <p:blipFill>
          <a:blip r:embed="rId32"/>
          <a:stretch/>
        </p:blipFill>
        <p:spPr>
          <a:xfrm>
            <a:off x="6808680" y="0"/>
            <a:ext cx="233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38" descr="4-2.png"/>
          <p:cNvPicPr/>
          <p:nvPr/>
        </p:nvPicPr>
        <p:blipFill>
          <a:blip r:embed="rId33"/>
          <a:stretch/>
        </p:blipFill>
        <p:spPr>
          <a:xfrm>
            <a:off x="6845400" y="6388200"/>
            <a:ext cx="2298600" cy="4698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9" descr="4-3.png"/>
          <p:cNvPicPr/>
          <p:nvPr/>
        </p:nvPicPr>
        <p:blipFill>
          <a:blip r:embed="rId34"/>
          <a:stretch/>
        </p:blipFill>
        <p:spPr>
          <a:xfrm>
            <a:off x="7537320" y="5288040"/>
            <a:ext cx="9763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42" descr="4-6.png"/>
          <p:cNvPicPr/>
          <p:nvPr/>
        </p:nvPicPr>
        <p:blipFill>
          <a:blip r:embed="rId35"/>
          <a:stretch/>
        </p:blipFill>
        <p:spPr>
          <a:xfrm>
            <a:off x="8105760" y="1282680"/>
            <a:ext cx="482760" cy="4190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43" descr="4-7.png"/>
          <p:cNvPicPr/>
          <p:nvPr/>
        </p:nvPicPr>
        <p:blipFill>
          <a:blip r:embed="rId36"/>
          <a:stretch/>
        </p:blipFill>
        <p:spPr>
          <a:xfrm>
            <a:off x="7674120" y="12826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44" descr="4-8.png"/>
          <p:cNvPicPr/>
          <p:nvPr/>
        </p:nvPicPr>
        <p:blipFill>
          <a:blip r:embed="rId37"/>
          <a:stretch/>
        </p:blipFill>
        <p:spPr>
          <a:xfrm>
            <a:off x="7229520" y="1270080"/>
            <a:ext cx="468360" cy="4446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45" descr="4-9.png"/>
          <p:cNvPicPr/>
          <p:nvPr/>
        </p:nvPicPr>
        <p:blipFill>
          <a:blip r:embed="rId38"/>
          <a:stretch/>
        </p:blipFill>
        <p:spPr>
          <a:xfrm>
            <a:off x="7674120" y="431640"/>
            <a:ext cx="703080" cy="692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46" descr="4-10.png"/>
          <p:cNvPicPr/>
          <p:nvPr/>
        </p:nvPicPr>
        <p:blipFill>
          <a:blip r:embed="rId39"/>
          <a:stretch/>
        </p:blipFill>
        <p:spPr>
          <a:xfrm>
            <a:off x="8193240" y="147600"/>
            <a:ext cx="395280" cy="407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48" descr="2.png"/>
          <p:cNvPicPr/>
          <p:nvPr/>
        </p:nvPicPr>
        <p:blipFill>
          <a:blip r:embed="rId40"/>
          <a:srcRect l="77147" t="74076" r="14762" b="16191"/>
          <a:stretch/>
        </p:blipFill>
        <p:spPr>
          <a:xfrm>
            <a:off x="7053120" y="5079960"/>
            <a:ext cx="741600" cy="6685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9" descr="2.png"/>
          <p:cNvPicPr/>
          <p:nvPr/>
        </p:nvPicPr>
        <p:blipFill>
          <a:blip r:embed="rId41"/>
          <a:srcRect l="91349" t="71966" r="1575" b="19215"/>
          <a:stretch/>
        </p:blipFill>
        <p:spPr>
          <a:xfrm>
            <a:off x="8353440" y="4935600"/>
            <a:ext cx="646200" cy="604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47" descr="1.png"/>
          <p:cNvPicPr/>
          <p:nvPr/>
        </p:nvPicPr>
        <p:blipFill>
          <a:blip r:embed="rId42"/>
          <a:stretch/>
        </p:blipFill>
        <p:spPr>
          <a:xfrm rot="18600000">
            <a:off x="8467200" y="1099800"/>
            <a:ext cx="114948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11111E-006 2.96296E-006 C -0.03976 0.04444 -0.03056 0.41481 -0.03056 0.65185 E">
                                      <p:cBhvr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3000000">
                                      <p:cBhvr>
                                        <p:cTn id="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3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3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7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3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3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0.65277 L -0.19462 0.65231 E">
                                      <p:cBhvr>
                                        <p:cTn id="40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4329 L -4.16667E-006 -4.81481E-006 E">
                                      <p:cBhvr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10139 C 0.02465 0.05648 0.02777 0.00787 4.44444E-006 -1.85185E-006 E">
                                      <p:cBhvr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0.12453 C -0.10763 0.03819 -0.06197 -0.02639 -4.72222E-006 2.59259E-006 E">
                                      <p:cBhvr>
                                        <p:cTn id="59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0.65156 C -0.21719 0.55931 -0.27656 0.56833 -0.27656 0.61596 E">
                                      <p:cBhvr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56 0.61596 L -0.45156 0.6148 E">
                                      <p:cBhvr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3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156 0.6148 C -0.45295 0.47584 -0.53386 0.46544 -0.53229 0.5163 E">
                                      <p:cBhvr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8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29 0.5163 L -0.70052 0.51653 E">
                                      <p:cBhvr>
                                        <p:cTn id="89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2049 0.03376 L 0.00174 -0.11422 L 0.00174 -0.01479 L 0.00174 -0.03399 L -2.77778E-007 -3.2948E-006 E">
                                      <p:cBhvr>
                                        <p:cTn id="95" dur="3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52 0.51653 C -0.76129 0.50844 -0.78507 0.61619 -0.78663 0.65018 E">
                                      <p:cBhvr>
                                        <p:cTn id="12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63 0.65018 L -1.09288 0.65041 E">
                                      <p:cBhvr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00416 C -0.04496 -0.1037 -0.00226 -0.11481 -2.77778E-007 -3.7037E-006 E">
                                      <p:cBhvr>
                                        <p:cTn id="130" dur="3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7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3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7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3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7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59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54" descr="5-1.png"/>
          <p:cNvPicPr/>
          <p:nvPr/>
        </p:nvPicPr>
        <p:blipFill>
          <a:blip r:embed="rId2"/>
          <a:srcRect l="0" t="0" r="74599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5" descr="5-2.png"/>
          <p:cNvPicPr/>
          <p:nvPr/>
        </p:nvPicPr>
        <p:blipFill>
          <a:blip r:embed="rId3"/>
          <a:srcRect l="24412" t="0" r="50321" b="0"/>
          <a:stretch/>
        </p:blipFill>
        <p:spPr>
          <a:xfrm>
            <a:off x="2232000" y="0"/>
            <a:ext cx="234936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56" descr="5-3.png"/>
          <p:cNvPicPr/>
          <p:nvPr/>
        </p:nvPicPr>
        <p:blipFill>
          <a:blip r:embed="rId4"/>
          <a:srcRect l="49691" t="0" r="25397" b="0"/>
          <a:stretch/>
        </p:blipFill>
        <p:spPr>
          <a:xfrm>
            <a:off x="4543560" y="0"/>
            <a:ext cx="2328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57" descr="5-4.png"/>
          <p:cNvPicPr/>
          <p:nvPr/>
        </p:nvPicPr>
        <p:blipFill>
          <a:blip r:embed="rId5"/>
          <a:srcRect l="75139" t="0" r="0" b="0"/>
          <a:stretch/>
        </p:blipFill>
        <p:spPr>
          <a:xfrm>
            <a:off x="6870600" y="0"/>
            <a:ext cx="227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53"/>
          <p:cNvGrpSpPr/>
          <p:nvPr/>
        </p:nvGrpSpPr>
        <p:grpSpPr>
          <a:xfrm>
            <a:off x="0" y="0"/>
            <a:ext cx="2381400" cy="6858000"/>
            <a:chOff x="0" y="0"/>
            <a:chExt cx="2381400" cy="6858000"/>
          </a:xfrm>
        </p:grpSpPr>
        <p:pic>
          <p:nvPicPr>
            <p:cNvPr id="532" name="图片 4" descr="1-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381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图片 5" descr="1-2.png"/>
            <p:cNvPicPr/>
            <p:nvPr/>
          </p:nvPicPr>
          <p:blipFill>
            <a:blip r:embed="rId7"/>
            <a:stretch/>
          </p:blipFill>
          <p:spPr>
            <a:xfrm>
              <a:off x="0" y="6388920"/>
              <a:ext cx="22492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图片 6" descr="1-3.png"/>
            <p:cNvPicPr/>
            <p:nvPr/>
          </p:nvPicPr>
          <p:blipFill>
            <a:blip r:embed="rId8"/>
            <a:srcRect l="0" t="43468" r="0" b="0"/>
            <a:stretch/>
          </p:blipFill>
          <p:spPr>
            <a:xfrm>
              <a:off x="0" y="2857320"/>
              <a:ext cx="2323440" cy="37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图片 7" descr="1-4.png"/>
            <p:cNvPicPr/>
            <p:nvPr/>
          </p:nvPicPr>
          <p:blipFill>
            <a:blip r:embed="rId9"/>
            <a:stretch/>
          </p:blipFill>
          <p:spPr>
            <a:xfrm>
              <a:off x="108000" y="1148760"/>
              <a:ext cx="2029680" cy="34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图片 9" descr="1-6.png"/>
            <p:cNvPicPr/>
            <p:nvPr/>
          </p:nvPicPr>
          <p:blipFill>
            <a:blip r:embed="rId10"/>
            <a:stretch/>
          </p:blipFill>
          <p:spPr>
            <a:xfrm>
              <a:off x="1445760" y="5857560"/>
              <a:ext cx="61776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图片 10" descr="1-7.png"/>
            <p:cNvPicPr/>
            <p:nvPr/>
          </p:nvPicPr>
          <p:blipFill>
            <a:blip r:embed="rId11"/>
            <a:stretch/>
          </p:blipFill>
          <p:spPr>
            <a:xfrm>
              <a:off x="246600" y="2075760"/>
              <a:ext cx="1915920" cy="90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52"/>
          <p:cNvGrpSpPr/>
          <p:nvPr/>
        </p:nvGrpSpPr>
        <p:grpSpPr>
          <a:xfrm>
            <a:off x="2260440" y="0"/>
            <a:ext cx="2337120" cy="6858000"/>
            <a:chOff x="2260440" y="0"/>
            <a:chExt cx="2337120" cy="6858000"/>
          </a:xfrm>
        </p:grpSpPr>
        <p:pic>
          <p:nvPicPr>
            <p:cNvPr id="539" name="图片 11" descr="2-1.png"/>
            <p:cNvPicPr/>
            <p:nvPr/>
          </p:nvPicPr>
          <p:blipFill>
            <a:blip r:embed="rId12"/>
            <a:stretch/>
          </p:blipFill>
          <p:spPr>
            <a:xfrm>
              <a:off x="2260440" y="0"/>
              <a:ext cx="2324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12" descr="2-2.png"/>
            <p:cNvPicPr/>
            <p:nvPr/>
          </p:nvPicPr>
          <p:blipFill>
            <a:blip r:embed="rId13"/>
            <a:stretch/>
          </p:blipFill>
          <p:spPr>
            <a:xfrm>
              <a:off x="2272680" y="5499000"/>
              <a:ext cx="230004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13" descr="2-3.png"/>
            <p:cNvPicPr/>
            <p:nvPr/>
          </p:nvPicPr>
          <p:blipFill>
            <a:blip r:embed="rId14"/>
            <a:stretch/>
          </p:blipFill>
          <p:spPr>
            <a:xfrm>
              <a:off x="2272680" y="0"/>
              <a:ext cx="23248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14" descr="2-4.png"/>
            <p:cNvPicPr/>
            <p:nvPr/>
          </p:nvPicPr>
          <p:blipFill>
            <a:blip r:embed="rId15"/>
            <a:stretch/>
          </p:blipFill>
          <p:spPr>
            <a:xfrm>
              <a:off x="3249720" y="0"/>
              <a:ext cx="13356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15" descr="2-5.png"/>
            <p:cNvPicPr/>
            <p:nvPr/>
          </p:nvPicPr>
          <p:blipFill>
            <a:blip r:embed="rId16"/>
            <a:stretch/>
          </p:blipFill>
          <p:spPr>
            <a:xfrm>
              <a:off x="2297520" y="5844960"/>
              <a:ext cx="5439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16" descr="2-6.png"/>
            <p:cNvPicPr/>
            <p:nvPr/>
          </p:nvPicPr>
          <p:blipFill>
            <a:blip r:embed="rId17"/>
            <a:stretch/>
          </p:blipFill>
          <p:spPr>
            <a:xfrm>
              <a:off x="2891160" y="5857560"/>
              <a:ext cx="5068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17" descr="2-7.png"/>
            <p:cNvPicPr/>
            <p:nvPr/>
          </p:nvPicPr>
          <p:blipFill>
            <a:blip r:embed="rId18"/>
            <a:stretch/>
          </p:blipFill>
          <p:spPr>
            <a:xfrm>
              <a:off x="3435120" y="5882040"/>
              <a:ext cx="506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18" descr="2-8.png"/>
            <p:cNvPicPr/>
            <p:nvPr/>
          </p:nvPicPr>
          <p:blipFill>
            <a:blip r:embed="rId19"/>
            <a:stretch/>
          </p:blipFill>
          <p:spPr>
            <a:xfrm>
              <a:off x="4028760" y="5882040"/>
              <a:ext cx="531720" cy="4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19" descr="2-9.png"/>
            <p:cNvPicPr/>
            <p:nvPr/>
          </p:nvPicPr>
          <p:blipFill>
            <a:blip r:embed="rId20"/>
            <a:stretch/>
          </p:blipFill>
          <p:spPr>
            <a:xfrm>
              <a:off x="2779560" y="6030360"/>
              <a:ext cx="132300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20" descr="2-10.png"/>
            <p:cNvPicPr/>
            <p:nvPr/>
          </p:nvPicPr>
          <p:blipFill>
            <a:blip r:embed="rId21"/>
            <a:stretch/>
          </p:blipFill>
          <p:spPr>
            <a:xfrm>
              <a:off x="2383920" y="1247760"/>
              <a:ext cx="2126880" cy="41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21" descr="2-11.png"/>
            <p:cNvPicPr/>
            <p:nvPr/>
          </p:nvPicPr>
          <p:blipFill>
            <a:blip r:embed="rId22"/>
            <a:stretch/>
          </p:blipFill>
          <p:spPr>
            <a:xfrm>
              <a:off x="2346840" y="419760"/>
              <a:ext cx="2065320" cy="40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22" descr="2-12.png"/>
            <p:cNvPicPr/>
            <p:nvPr/>
          </p:nvPicPr>
          <p:blipFill>
            <a:blip r:embed="rId23"/>
            <a:stretch/>
          </p:blipFill>
          <p:spPr>
            <a:xfrm>
              <a:off x="3237480" y="4188960"/>
              <a:ext cx="12366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23" descr="2-13.png"/>
            <p:cNvPicPr/>
            <p:nvPr/>
          </p:nvPicPr>
          <p:blipFill>
            <a:blip r:embed="rId24"/>
            <a:stretch/>
          </p:blipFill>
          <p:spPr>
            <a:xfrm>
              <a:off x="2334600" y="4819320"/>
              <a:ext cx="902520" cy="7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24" descr="2-14.png"/>
            <p:cNvPicPr/>
            <p:nvPr/>
          </p:nvPicPr>
          <p:blipFill>
            <a:blip r:embed="rId25"/>
            <a:stretch/>
          </p:blipFill>
          <p:spPr>
            <a:xfrm>
              <a:off x="2965320" y="1208520"/>
              <a:ext cx="8283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组合 51"/>
          <p:cNvGrpSpPr/>
          <p:nvPr/>
        </p:nvGrpSpPr>
        <p:grpSpPr>
          <a:xfrm>
            <a:off x="4546440" y="0"/>
            <a:ext cx="2337120" cy="6858000"/>
            <a:chOff x="4546440" y="0"/>
            <a:chExt cx="2337120" cy="6858000"/>
          </a:xfrm>
        </p:grpSpPr>
        <p:pic>
          <p:nvPicPr>
            <p:cNvPr id="554" name="图片 26" descr="3-1.png"/>
            <p:cNvPicPr/>
            <p:nvPr/>
          </p:nvPicPr>
          <p:blipFill>
            <a:blip r:embed="rId26"/>
            <a:stretch/>
          </p:blipFill>
          <p:spPr>
            <a:xfrm>
              <a:off x="4546440" y="0"/>
              <a:ext cx="2337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27" descr="3-2.png"/>
            <p:cNvPicPr/>
            <p:nvPr/>
          </p:nvPicPr>
          <p:blipFill>
            <a:blip r:embed="rId27"/>
            <a:stretch/>
          </p:blipFill>
          <p:spPr>
            <a:xfrm>
              <a:off x="4608000" y="0"/>
              <a:ext cx="2188800" cy="6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28" descr="3-3.png"/>
            <p:cNvPicPr/>
            <p:nvPr/>
          </p:nvPicPr>
          <p:blipFill>
            <a:blip r:embed="rId28"/>
            <a:stretch/>
          </p:blipFill>
          <p:spPr>
            <a:xfrm>
              <a:off x="4546440" y="6228360"/>
              <a:ext cx="23248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29" descr="3-4.png"/>
            <p:cNvPicPr/>
            <p:nvPr/>
          </p:nvPicPr>
          <p:blipFill>
            <a:blip r:embed="rId29"/>
            <a:stretch/>
          </p:blipFill>
          <p:spPr>
            <a:xfrm>
              <a:off x="4595760" y="370440"/>
              <a:ext cx="2238480" cy="26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30" descr="3-5.png"/>
            <p:cNvPicPr/>
            <p:nvPr/>
          </p:nvPicPr>
          <p:blipFill>
            <a:blip r:embed="rId30"/>
            <a:stretch/>
          </p:blipFill>
          <p:spPr>
            <a:xfrm>
              <a:off x="4546440" y="3188160"/>
              <a:ext cx="1038600" cy="31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31" descr="3-6.png"/>
            <p:cNvPicPr/>
            <p:nvPr/>
          </p:nvPicPr>
          <p:blipFill>
            <a:blip r:embed="rId31"/>
            <a:stretch/>
          </p:blipFill>
          <p:spPr>
            <a:xfrm>
              <a:off x="5312880" y="5647320"/>
              <a:ext cx="5191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32" descr="3-7.png"/>
            <p:cNvPicPr/>
            <p:nvPr/>
          </p:nvPicPr>
          <p:blipFill>
            <a:blip r:embed="rId32"/>
            <a:stretch/>
          </p:blipFill>
          <p:spPr>
            <a:xfrm>
              <a:off x="5758200" y="5721480"/>
              <a:ext cx="5317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33" descr="3-8.png"/>
            <p:cNvPicPr/>
            <p:nvPr/>
          </p:nvPicPr>
          <p:blipFill>
            <a:blip r:embed="rId33"/>
            <a:stretch/>
          </p:blipFill>
          <p:spPr>
            <a:xfrm>
              <a:off x="6178680" y="5610240"/>
              <a:ext cx="593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34" descr="3-9.png"/>
            <p:cNvPicPr/>
            <p:nvPr/>
          </p:nvPicPr>
          <p:blipFill>
            <a:blip r:embed="rId34"/>
            <a:stretch/>
          </p:blipFill>
          <p:spPr>
            <a:xfrm>
              <a:off x="5004000" y="419760"/>
              <a:ext cx="7419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35" descr="3-10.png"/>
            <p:cNvPicPr/>
            <p:nvPr/>
          </p:nvPicPr>
          <p:blipFill>
            <a:blip r:embed="rId35"/>
            <a:stretch/>
          </p:blipFill>
          <p:spPr>
            <a:xfrm>
              <a:off x="6117120" y="3719520"/>
              <a:ext cx="55620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36" descr="3-11.png"/>
            <p:cNvPicPr/>
            <p:nvPr/>
          </p:nvPicPr>
          <p:blipFill>
            <a:blip r:embed="rId36"/>
            <a:stretch/>
          </p:blipFill>
          <p:spPr>
            <a:xfrm>
              <a:off x="4756680" y="1420920"/>
              <a:ext cx="1892160" cy="76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组合 50"/>
          <p:cNvGrpSpPr/>
          <p:nvPr/>
        </p:nvGrpSpPr>
        <p:grpSpPr>
          <a:xfrm>
            <a:off x="6808680" y="0"/>
            <a:ext cx="2335320" cy="6858000"/>
            <a:chOff x="6808680" y="0"/>
            <a:chExt cx="2335320" cy="6858000"/>
          </a:xfrm>
        </p:grpSpPr>
        <p:pic>
          <p:nvPicPr>
            <p:cNvPr id="566" name="图片 37" descr="4-1.png"/>
            <p:cNvPicPr/>
            <p:nvPr/>
          </p:nvPicPr>
          <p:blipFill>
            <a:blip r:embed="rId37"/>
            <a:stretch/>
          </p:blipFill>
          <p:spPr>
            <a:xfrm>
              <a:off x="6808680" y="0"/>
              <a:ext cx="2335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图片 38" descr="4-2.png"/>
            <p:cNvPicPr/>
            <p:nvPr/>
          </p:nvPicPr>
          <p:blipFill>
            <a:blip r:embed="rId38"/>
            <a:stretch/>
          </p:blipFill>
          <p:spPr>
            <a:xfrm>
              <a:off x="6845400" y="6388920"/>
              <a:ext cx="229824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图片 39" descr="4-3.png"/>
            <p:cNvPicPr/>
            <p:nvPr/>
          </p:nvPicPr>
          <p:blipFill>
            <a:blip r:embed="rId39"/>
            <a:stretch/>
          </p:blipFill>
          <p:spPr>
            <a:xfrm>
              <a:off x="7537680" y="5289120"/>
              <a:ext cx="97632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图片 42" descr="4-6.png"/>
            <p:cNvPicPr/>
            <p:nvPr/>
          </p:nvPicPr>
          <p:blipFill>
            <a:blip r:embed="rId40"/>
            <a:stretch/>
          </p:blipFill>
          <p:spPr>
            <a:xfrm>
              <a:off x="8106480" y="1281600"/>
              <a:ext cx="4820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图片 43" descr="4-7.png"/>
            <p:cNvPicPr/>
            <p:nvPr/>
          </p:nvPicPr>
          <p:blipFill>
            <a:blip r:embed="rId41"/>
            <a:stretch/>
          </p:blipFill>
          <p:spPr>
            <a:xfrm>
              <a:off x="7673760" y="1281600"/>
              <a:ext cx="43236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图片 44" descr="4-8.png"/>
            <p:cNvPicPr/>
            <p:nvPr/>
          </p:nvPicPr>
          <p:blipFill>
            <a:blip r:embed="rId42"/>
            <a:stretch/>
          </p:blipFill>
          <p:spPr>
            <a:xfrm>
              <a:off x="7228800" y="1269360"/>
              <a:ext cx="4694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45" descr="4-9.png"/>
            <p:cNvPicPr/>
            <p:nvPr/>
          </p:nvPicPr>
          <p:blipFill>
            <a:blip r:embed="rId43"/>
            <a:stretch/>
          </p:blipFill>
          <p:spPr>
            <a:xfrm>
              <a:off x="7673760" y="432000"/>
              <a:ext cx="7045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46" descr="4-10.png"/>
            <p:cNvPicPr/>
            <p:nvPr/>
          </p:nvPicPr>
          <p:blipFill>
            <a:blip r:embed="rId44"/>
            <a:stretch/>
          </p:blipFill>
          <p:spPr>
            <a:xfrm>
              <a:off x="8192880" y="147960"/>
              <a:ext cx="3952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48" descr="2.png"/>
            <p:cNvPicPr/>
            <p:nvPr/>
          </p:nvPicPr>
          <p:blipFill>
            <a:blip r:embed="rId45"/>
            <a:srcRect l="77147" t="74076" r="14762" b="16191"/>
            <a:stretch/>
          </p:blipFill>
          <p:spPr>
            <a:xfrm>
              <a:off x="7053840" y="5080320"/>
              <a:ext cx="740160" cy="6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9" descr="2.png"/>
            <p:cNvPicPr/>
            <p:nvPr/>
          </p:nvPicPr>
          <p:blipFill>
            <a:blip r:embed="rId46"/>
            <a:srcRect l="91349" t="71966" r="1575" b="19215"/>
            <a:stretch/>
          </p:blipFill>
          <p:spPr>
            <a:xfrm>
              <a:off x="8353080" y="4935240"/>
              <a:ext cx="647280" cy="60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"/>
                            </p:stCondLst>
                            <p:childTnLst>
                              <p:par>
                                <p:cTn id="249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"/>
                            </p:stCondLst>
                            <p:childTnLst>
                              <p:par>
                                <p:cTn id="256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"/>
                            </p:stCondLst>
                            <p:childTnLst>
                              <p:par>
                                <p:cTn id="263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4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4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4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4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4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377" dur="12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9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100"/>
                            </p:stCondLst>
                            <p:childTnLst>
                              <p:par>
                                <p:cTn id="420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421" dur="8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39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1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4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45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2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451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2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5" descr=""/>
          <p:cNvPicPr/>
          <p:nvPr/>
        </p:nvPicPr>
        <p:blipFill>
          <a:blip r:embed="rId35"/>
          <a:stretch/>
        </p:blipFill>
        <p:spPr>
          <a:xfrm>
            <a:off x="7504200" y="5803920"/>
            <a:ext cx="1353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4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4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4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4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4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4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4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"/>
                            </p:stCondLst>
                            <p:childTnLst>
                              <p:par>
                                <p:cTn id="537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538" dur="12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900"/>
                            </p:stCondLst>
                            <p:childTnLst>
                              <p:par>
                                <p:cTn id="5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100"/>
                            </p:stCondLst>
                            <p:childTnLst>
                              <p:par>
                                <p:cTn id="581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582" dur="8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600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0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0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606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4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612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618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100"/>
                            </p:stCondLst>
                            <p:childTnLst>
                              <p:par>
                                <p:cTn id="6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7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3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45:44Z</dcterms:created>
  <dc:creator>YlmF</dc:creator>
  <dc:description/>
  <dc:language>en-US</dc:language>
  <cp:lastModifiedBy>nana</cp:lastModifiedBy>
  <dcterms:modified xsi:type="dcterms:W3CDTF">2016-03-23T06:23:30Z</dcterms:modified>
  <cp:revision>14</cp:revision>
  <dc:subject/>
  <dc:title>幻灯片 1</dc:title>
</cp:coreProperties>
</file>