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D4E7-B6B5-4EB4-B1CB-777E6F9A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5772-C018-4BE7-BA41-E61BD770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A17-095A-48AB-B038-1FBA1F7E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00F-14AC-4335-B331-7045018D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390-675F-4BB4-97AC-42352AB6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5F7-2629-49E8-8F6C-E025D95B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12D-E8DC-4778-AAB9-F88832C3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1988-9DD3-4700-A860-780ACB6E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2D1D-7B0B-42BC-8F9F-DF9A6E71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61E-A0D7-47F4-B4C1-266E025D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306-B521-4D2A-8693-F4375270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FFA-74A8-415C-8175-ED77C21F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58FF-BFC0-4993-9BCB-9DF93A02EA0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9E71-3DC7-44C0-AFBD-F6F228CA85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4513320" y="1136520"/>
            <a:ext cx="3165480" cy="31734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2"/>
          <p:cNvSpPr/>
          <p:nvPr/>
        </p:nvSpPr>
        <p:spPr>
          <a:xfrm>
            <a:off x="3886200" y="45896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让沟通更流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4667400" y="130500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3"/>
          <p:cNvSpPr/>
          <p:nvPr/>
        </p:nvSpPr>
        <p:spPr>
          <a:xfrm>
            <a:off x="4667400" y="4162320"/>
            <a:ext cx="2857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ba67a"/>
                </a:solidFill>
                <a:latin typeface="华文细黑"/>
                <a:ea typeface="华文细黑"/>
              </a:rPr>
              <a:t>谢谢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2" descr=""/>
          <p:cNvPicPr/>
          <p:nvPr/>
        </p:nvPicPr>
        <p:blipFill>
          <a:blip r:embed="rId1"/>
          <a:srcRect l="14887" t="0" r="6779" b="0"/>
          <a:stretch/>
        </p:blipFill>
        <p:spPr>
          <a:xfrm>
            <a:off x="-19080" y="1476360"/>
            <a:ext cx="12255480" cy="4226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" descr=""/>
          <p:cNvPicPr/>
          <p:nvPr/>
        </p:nvPicPr>
        <p:blipFill>
          <a:blip r:embed="rId2"/>
          <a:srcRect l="8948" t="13720" r="13514" b="1613"/>
          <a:stretch/>
        </p:blipFill>
        <p:spPr>
          <a:xfrm>
            <a:off x="1449360" y="1646280"/>
            <a:ext cx="94536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rcRect l="0" t="6399" r="0" b="6932"/>
          <a:stretch/>
        </p:blipFill>
        <p:spPr>
          <a:xfrm>
            <a:off x="5489640" y="196920"/>
            <a:ext cx="603576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1028880" y="19684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高清语音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周围再吵照样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028880" y="3429000"/>
            <a:ext cx="47908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采用独家降噪技术以及更高采样，语音消息更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清晰，沟通起来不费力，还原你的真实声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178720" y="45975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易信根据网络环境，智能切换语音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5"/>
          <p:cNvSpPr/>
          <p:nvPr/>
        </p:nvSpPr>
        <p:spPr>
          <a:xfrm>
            <a:off x="1152360" y="4632480"/>
            <a:ext cx="46548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1139760" y="459252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9"/>
          <p:cNvSpPr/>
          <p:nvPr/>
        </p:nvSpPr>
        <p:spPr>
          <a:xfrm>
            <a:off x="111456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438120" y="0"/>
            <a:ext cx="6753240" cy="643248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6934320" y="18622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贴图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清新萌系大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6986520" y="3200400"/>
            <a:ext cx="48117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一点，丰富有趣的贴图表情马上发送给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的好友，聊天从此不再枯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7872840" y="44416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海量表情，全都免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5"/>
          <p:cNvSpPr/>
          <p:nvPr/>
        </p:nvSpPr>
        <p:spPr>
          <a:xfrm>
            <a:off x="7095960" y="4478400"/>
            <a:ext cx="4654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7083360" y="4437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7"/>
          <p:cNvSpPr/>
          <p:nvPr/>
        </p:nvSpPr>
        <p:spPr>
          <a:xfrm>
            <a:off x="7058160" y="4202280"/>
            <a:ext cx="4117680" cy="144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5" descr="rrpptlogo.png"/>
          <p:cNvPicPr/>
          <p:nvPr/>
        </p:nvPicPr>
        <p:blipFill>
          <a:blip r:embed="rId1"/>
          <a:srcRect l="0" t="0" r="0" b="35689"/>
          <a:stretch/>
        </p:blipFill>
        <p:spPr>
          <a:xfrm>
            <a:off x="10022040" y="6072120"/>
            <a:ext cx="189072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5710320" y="1533600"/>
            <a:ext cx="6113520" cy="532440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657360" y="2057400"/>
            <a:ext cx="22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短信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消息必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657360" y="3403440"/>
            <a:ext cx="4603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发短信全免费，即使对方没有网络，消息也能马上送达，对方还能直接回复短信，回复内容将通过易信传达给你，保证沟通畅快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1285920" y="4861080"/>
            <a:ext cx="3975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免费短信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5"/>
          <p:cNvSpPr/>
          <p:nvPr/>
        </p:nvSpPr>
        <p:spPr>
          <a:xfrm>
            <a:off x="806400" y="489600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793800" y="4856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7"/>
          <p:cNvSpPr/>
          <p:nvPr/>
        </p:nvSpPr>
        <p:spPr>
          <a:xfrm>
            <a:off x="768240" y="4621320"/>
            <a:ext cx="424836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482760" y="0"/>
            <a:ext cx="6705360" cy="562752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6789600" y="2943360"/>
            <a:ext cx="30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电话留言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沟通无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6789600" y="4289400"/>
            <a:ext cx="491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免费短信还不够？语音消息也玩跨界，电话留言能把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你的语音消息通过电话传达给对方的手机或固话，对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方还能通过电话直接回复，回复内容将通过易信传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448400" y="5667480"/>
            <a:ext cx="42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电话留言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9"/>
          <p:cNvSpPr/>
          <p:nvPr/>
        </p:nvSpPr>
        <p:spPr>
          <a:xfrm>
            <a:off x="6956280" y="5702400"/>
            <a:ext cx="4636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"/>
          <p:cNvSpPr/>
          <p:nvPr/>
        </p:nvSpPr>
        <p:spPr>
          <a:xfrm>
            <a:off x="6942240" y="5661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1"/>
          <p:cNvSpPr/>
          <p:nvPr/>
        </p:nvSpPr>
        <p:spPr>
          <a:xfrm>
            <a:off x="6916680" y="5425920"/>
            <a:ext cx="460872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" descr=""/>
          <p:cNvPicPr/>
          <p:nvPr/>
        </p:nvPicPr>
        <p:blipFill>
          <a:blip r:embed="rId1"/>
          <a:srcRect l="0" t="1434" r="0" b="6561"/>
          <a:stretch/>
        </p:blipFill>
        <p:spPr>
          <a:xfrm>
            <a:off x="5504040" y="-181080"/>
            <a:ext cx="6078240" cy="6309000"/>
          </a:xfrm>
          <a:prstGeom prst="rect">
            <a:avLst/>
          </a:prstGeom>
          <a:ln w="0">
            <a:noFill/>
          </a:ln>
        </p:spPr>
      </p:pic>
      <p:sp>
        <p:nvSpPr>
          <p:cNvPr id="80" name="矩形 2"/>
          <p:cNvSpPr/>
          <p:nvPr/>
        </p:nvSpPr>
        <p:spPr>
          <a:xfrm>
            <a:off x="825480" y="169848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电脑上也能用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打字聊天更疯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825480" y="3059280"/>
            <a:ext cx="3506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整夜泡在电脑边，看着电影聊着天</a:t>
            </a:r>
            <a:r>
              <a:rPr b="0" lang="en-US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...</a:t>
            </a: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开启“宅”模式，回归那段随心所欲的生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1871280" y="459756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支持和移动版本消息双向同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969840" y="463248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957240" y="45925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"/>
          <p:cNvSpPr/>
          <p:nvPr/>
        </p:nvSpPr>
        <p:spPr>
          <a:xfrm>
            <a:off x="93204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800280" y="582480"/>
            <a:ext cx="5746680" cy="57182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7520040" y="198108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音乐分享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乐在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7545240" y="3460680"/>
            <a:ext cx="3908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好音乐，齐分享，百万曲库，随心使用，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表露音乐心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8102520" y="49150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无需下载音乐，即可完成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5"/>
          <p:cNvSpPr/>
          <p:nvPr/>
        </p:nvSpPr>
        <p:spPr>
          <a:xfrm>
            <a:off x="7610400" y="4956120"/>
            <a:ext cx="463680" cy="19548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"/>
          <p:cNvSpPr/>
          <p:nvPr/>
        </p:nvSpPr>
        <p:spPr>
          <a:xfrm>
            <a:off x="7596360" y="491508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7"/>
          <p:cNvSpPr/>
          <p:nvPr/>
        </p:nvSpPr>
        <p:spPr>
          <a:xfrm>
            <a:off x="7570800" y="4680000"/>
            <a:ext cx="36370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1222200" y="1944720"/>
            <a:ext cx="1552680" cy="1609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2"/>
          <a:stretch/>
        </p:blipFill>
        <p:spPr>
          <a:xfrm>
            <a:off x="3946680" y="2025720"/>
            <a:ext cx="1495440" cy="1495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"/>
          <p:cNvPicPr/>
          <p:nvPr/>
        </p:nvPicPr>
        <p:blipFill>
          <a:blip r:embed="rId3"/>
          <a:stretch/>
        </p:blipFill>
        <p:spPr>
          <a:xfrm>
            <a:off x="6680160" y="2025720"/>
            <a:ext cx="1476360" cy="1495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"/>
          <p:cNvPicPr/>
          <p:nvPr/>
        </p:nvPicPr>
        <p:blipFill>
          <a:blip r:embed="rId4"/>
          <a:stretch/>
        </p:blipFill>
        <p:spPr>
          <a:xfrm>
            <a:off x="9401040" y="1992240"/>
            <a:ext cx="1524240" cy="1562040"/>
          </a:xfrm>
          <a:prstGeom prst="rect">
            <a:avLst/>
          </a:prstGeom>
          <a:ln w="0">
            <a:noFill/>
          </a:ln>
        </p:spPr>
      </p:pic>
      <p:sp>
        <p:nvSpPr>
          <p:cNvPr id="97" name="矩形 6"/>
          <p:cNvSpPr/>
          <p:nvPr/>
        </p:nvSpPr>
        <p:spPr>
          <a:xfrm>
            <a:off x="928800" y="4011480"/>
            <a:ext cx="22352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客服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向用户提供免费即时通讯服务，帮助企业建立维护用户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3597120" y="4011480"/>
            <a:ext cx="22003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工具助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开放接口，支持更多开发者向用户提供更加丰富的实用工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6267600" y="4011480"/>
            <a:ext cx="2232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内部分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提供关注验证权限</a:t>
            </a:r>
            <a:r>
              <a:rPr b="0" lang="en-US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更好的向企业组织提供内部分享交流服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9102600" y="4011480"/>
            <a:ext cx="22719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媒体资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品牌、个人、媒体，通过易信与粉丝互动，向大家传递更多资讯信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1"/>
          <p:cNvSpPr/>
          <p:nvPr/>
        </p:nvSpPr>
        <p:spPr>
          <a:xfrm flipV="1">
            <a:off x="336060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2"/>
          <p:cNvSpPr/>
          <p:nvPr/>
        </p:nvSpPr>
        <p:spPr>
          <a:xfrm flipV="1">
            <a:off x="6062760" y="-52560"/>
            <a:ext cx="144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3"/>
          <p:cNvSpPr/>
          <p:nvPr/>
        </p:nvSpPr>
        <p:spPr>
          <a:xfrm flipV="1">
            <a:off x="882972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3:16:00Z</dcterms:created>
  <dc:creator>pan</dc:creator>
  <dc:description/>
  <dc:language>en-US</dc:language>
  <cp:lastModifiedBy>pan</cp:lastModifiedBy>
  <dcterms:modified xsi:type="dcterms:W3CDTF">2014-07-19T07:24:42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